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B8F8-6E52-4FF9-A90C-289FD423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A7B-CB1B-495D-A07A-56732C3902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C519-361F-48F1-A7C9-CB326BCCF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A226-18C9-47A2-B2FD-EBCC07DAE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EF4-BC01-4C72-A85A-70064A90A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967-D68C-4599-980C-A8B0BE3C7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4B9-5FB8-492E-AA8B-67BFCAE78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571-6435-4B0E-9D4D-566C98B54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31F0-19A4-492A-8F50-88F4CBC713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F443-D240-4246-ABAB-34256CB26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055E-78C6-41F9-B14C-FB25AE5F2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993-F86D-42EC-B628-91E70106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4A3-EF54-41B9-8F5F-8995F97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66E-8196-4F96-A96F-C7A32F3B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8B9-37D3-450E-B4F8-A0C2F20F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1B0-8606-4D46-8698-DC6759DD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027-105E-46E4-9262-BCD437CF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0A8-2790-4A3E-95F8-DBC6829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4D3-4578-41E5-A234-0F85BD5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7AF-8149-40B4-90B7-DEDE7ABF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3B6-BC3C-45B1-BC5D-6B6DFA4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3FF-1EF1-4826-9368-8652CF0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A95-95A4-4C24-96F4-74FE9A2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638-7776-4A74-89BF-EF0BEF5E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9284-3DEE-4F15-BBDC-03DCDA1B4FB1}" type="slidenum">
              <a:rPr b="0" lang="en-US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ОПШТА АНЕСТЕЗИЈА У ОРАЛНОЈ И МФ ХИРУРГИЈИ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5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карактеристике опште анестезије за операције у усној дупљ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840" y="6180120"/>
            <a:ext cx="78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D8A-CB06-4C6E-BC70-823D4F4160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88880" y="1866960"/>
            <a:ext cx="8140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 се процени да ће интубација бити отежана, потребно је предузети одговарајуће поступке како би се на безбедан начин успоставио слободан дисајни п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и обухват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оксигенацију (повећање кисеоничног капацитета кр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убацију у будном ста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убација успаваног пацијента са очуваним спонтаним диса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убација на сле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C30F-88AD-4F3E-92AE-DAB10E07EA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1480" y="1841400"/>
            <a:ext cx="814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им претходно наведених, постоје и други, специфични начини интубације. То су коришћењ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них мандрена и води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арингеалне ма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ебно конструисаних ларингоск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лексибилних оптичких ларингоск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троградне трахеалне интубације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757E-CE74-41A4-9933-3517E4233A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63680" y="1616040"/>
            <a:ext cx="8216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у успостављању слободног дисајног пута, потребно је предузети одговарајуће хитне поступ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ових поступака је ургентно обезбеђење оксигенације ткива, пре свега срца и моз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обухват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▪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кутану крикотиреоидектомију иглом  (увођење игле у трахеј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у крикотиреоидектом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хеотом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13B-35E3-4D4B-891F-C24A940857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01480" y="200196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пшта анестезија за операције из области оралне и максилофацијалне хирургије има своју посебну специфич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а специфичност је подела радног поља између анестезиолога и хирурга (усна дупља, нос и орофаринк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ва специфичност, за разлику од неких других хируршких процедура, захтевају ужу сарадњу анестезиолога и хир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DBCB-7642-4A9E-957E-312250B552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14440" y="1941480"/>
            <a:ext cx="819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ан задатак сваког анестезиолога јесте да за време опште ендотрахеалне  анестезије обезбеди слободан дисајни п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то су тимски рад и разумевање анестезиолога и хирурга веома битни како би пацијент кроз оперативни захват и анестезију прошао на што безбеднији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11A-A761-4586-BD4E-366BBF98C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63680" y="1754280"/>
            <a:ext cx="82296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трахеална интуб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операција у усној дупљи, успостављање слободног дисајног пута односно ендотрахеална интубација могу да буду знатно отеж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во настаје због могућности постојања промена у горњим дисајним путевима (инфекција, траума, тумори, конгениталне аномал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0B61-A071-4E90-93D5-B38D4635F5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88880" y="2003400"/>
            <a:ext cx="8129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ве промене могу да отеж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ју ма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вљање главе и врата у одговарајућ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тварање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ужавају и деформишу дисајни п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F55-952C-46AF-A943-DF30093932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3680" y="1854360"/>
            <a:ext cx="81914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ог свега овога, пажљиво узета анамнеза и детаљан преоперативни преглед и процена пацијента знатно смањују ризик по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и процена преоперативног стања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и циљ преоперативне процене пацијента јесте препознавање оних пацијената код којих ће ендотрахеална интубација бити отежана или онемогућ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15E4-C088-4743-B782-31F317ACF6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01480" y="1903320"/>
            <a:ext cx="812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утврђивања величине и климавости зуба, величине језика, постојања одређених протетских радова, стања носног септума и величине ноздрва, треба обратити пажњу и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лантоокципиталну покретљив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адекватна покретљивост главе и врата веома је важна за довођење осовине уста, ждрела и гркљана у исту раван , која је неопходна да би се видео гло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Смањење ове покретљивости за трећину и више доприноси отежаној интуб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0310-4034-47AE-9050-ED4A82B311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6280" y="1941480"/>
            <a:ext cx="811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ментално одсто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одстојање између тиреоидне хрскавице и врха б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ри се при пуној екстензији главе и уколико је мање од три попречна прста указује на следствену отежану интуб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тварање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мери се одстојање између секутића код отворених у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лико износи 3,5 цм и мање, доприноси отежаној интуб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0527-B699-418E-97EA-393D56ECBF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ОА за операције у усној дупљ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88880" y="1528920"/>
            <a:ext cx="802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идљивост орофарингеалних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посматра се видљивост непчаних лукова, меког непца и увуле при максимално отвореним устима и испруженом јез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четири кла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 видљиви непчани лукови, меко непце и ув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-  видљиви меко непце и ув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- видљиво само меко неп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- не види се ни меко неп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41:05Z</dcterms:modified>
  <cp:revision>821</cp:revision>
  <dc:subject/>
  <dc:title>NAZIV PREDAVANJA</dc:title>
</cp:coreProperties>
</file>